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8D8F-73D6-47A2-83DB-6B30802AE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F489-A60F-4850-84D4-760068C08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56B2-8D66-4BF6-8CC9-C9450D0A9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92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528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92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528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C150-1D75-41AE-AD9A-481B417C9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7777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32E8-3782-468F-AFE0-826394F3C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992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1404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992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810600"/>
            <a:ext cx="27856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2F19-B83A-4EBF-BFC4-C18878D9C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EB63-A035-4E20-A27F-3EB84B11E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6149-2760-4A4B-868E-A352246C7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7777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E0A3-1C61-4226-9266-B6B516315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92F2-23B3-4831-8489-6F63936A5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7960" y="381060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1766-8BA4-41FD-B8E1-CEDD0DCEB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960" y="914040"/>
            <a:ext cx="4222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10600"/>
            <a:ext cx="86518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70BD-D84B-413C-B0B8-8802328BF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Header_mediu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172360" y="6497280"/>
            <a:ext cx="86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357-0E2A-4A31-A035-034F35F402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ille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slidetitre_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AutoShape 15"/>
          <p:cNvSpPr/>
          <p:nvPr/>
        </p:nvSpPr>
        <p:spPr>
          <a:xfrm flipV="1" rot="10800000">
            <a:off x="0" y="3067560"/>
            <a:ext cx="7812000" cy="73080"/>
          </a:xfrm>
          <a:prstGeom prst="parallelogram">
            <a:avLst>
              <a:gd name="adj" fmla="val -8480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" name="Line 17"/>
          <p:cNvSpPr/>
          <p:nvPr/>
        </p:nvSpPr>
        <p:spPr>
          <a:xfrm flipH="1">
            <a:off x="-360" y="3213000"/>
            <a:ext cx="78850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" name="Line 18"/>
          <p:cNvSpPr/>
          <p:nvPr/>
        </p:nvSpPr>
        <p:spPr>
          <a:xfrm flipH="1">
            <a:off x="0" y="4149720"/>
            <a:ext cx="8532720" cy="0"/>
          </a:xfrm>
          <a:prstGeom prst="line">
            <a:avLst/>
          </a:prstGeom>
          <a:ln cap="rnd" w="32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" name="Line 19"/>
          <p:cNvSpPr/>
          <p:nvPr/>
        </p:nvSpPr>
        <p:spPr>
          <a:xfrm flipH="1">
            <a:off x="0" y="2060640"/>
            <a:ext cx="5983200" cy="0"/>
          </a:xfrm>
          <a:prstGeom prst="line">
            <a:avLst/>
          </a:prstGeom>
          <a:ln w="3240">
            <a:solidFill>
              <a:srgbClr val="00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5" name="AutoShape 21"/>
          <p:cNvSpPr/>
          <p:nvPr/>
        </p:nvSpPr>
        <p:spPr>
          <a:xfrm flipV="1" rot="10800000">
            <a:off x="-360" y="3067560"/>
            <a:ext cx="3505320" cy="74520"/>
          </a:xfrm>
          <a:prstGeom prst="parallelogram">
            <a:avLst>
              <a:gd name="adj" fmla="val 0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560" y="914040"/>
            <a:ext cx="8651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17A-A92F-4D67-A12D-1FBC29B7C168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31880"/>
            <a:ext cx="914400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og-to-Digital Converter (AD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9570-6247-44CE-A3D8-34E66C6FD343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conversion 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290240"/>
            <a:ext cx="817704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86560" indent="-28656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 conversion mode are availab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911160" y="2739960"/>
            <a:ext cx="83844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1330200" y="259380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976320" y="237636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976320" y="310356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op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1338120" y="295740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152880" y="3394080"/>
            <a:ext cx="83952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3548160" y="324792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3193920" y="3030480"/>
            <a:ext cx="70992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3186000" y="448308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op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3556080" y="361152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3144960" y="3755880"/>
            <a:ext cx="83952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3556080" y="397512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3144960" y="4119480"/>
            <a:ext cx="83952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3540240" y="433692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5186520" y="281304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6" name="Line 19"/>
          <p:cNvSpPr/>
          <p:nvPr/>
        </p:nvSpPr>
        <p:spPr>
          <a:xfrm>
            <a:off x="5572080" y="2630520"/>
            <a:ext cx="0" cy="1825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218200" y="241308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5572080" y="3030480"/>
            <a:ext cx="0" cy="1573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29" name="Line 22"/>
          <p:cNvSpPr/>
          <p:nvPr/>
        </p:nvSpPr>
        <p:spPr>
          <a:xfrm flipH="1">
            <a:off x="5089680" y="319572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0" name="Line 23"/>
          <p:cNvSpPr/>
          <p:nvPr/>
        </p:nvSpPr>
        <p:spPr>
          <a:xfrm flipV="1">
            <a:off x="5089680" y="2693880"/>
            <a:ext cx="0" cy="493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5089680" y="269388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2" name="Rectangle 25"/>
          <p:cNvSpPr/>
          <p:nvPr/>
        </p:nvSpPr>
        <p:spPr>
          <a:xfrm>
            <a:off x="7184880" y="3429000"/>
            <a:ext cx="83988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x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7580160" y="3211560"/>
            <a:ext cx="0" cy="217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4" name="Oval 27"/>
          <p:cNvSpPr/>
          <p:nvPr/>
        </p:nvSpPr>
        <p:spPr>
          <a:xfrm>
            <a:off x="7226280" y="2994120"/>
            <a:ext cx="709560" cy="217440"/>
          </a:xfrm>
          <a:prstGeom prst="ellipse">
            <a:avLst/>
          </a:prstGeom>
          <a:solidFill>
            <a:srgbClr val="800080">
              <a:alpha val="5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8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Start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7588080" y="3648240"/>
            <a:ext cx="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6" name="Rectangle 29"/>
          <p:cNvSpPr/>
          <p:nvPr/>
        </p:nvSpPr>
        <p:spPr>
          <a:xfrm>
            <a:off x="7176960" y="3792600"/>
            <a:ext cx="8398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.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7588080" y="4010040"/>
            <a:ext cx="0" cy="146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8" name="Rectangle 31"/>
          <p:cNvSpPr/>
          <p:nvPr/>
        </p:nvSpPr>
        <p:spPr>
          <a:xfrm>
            <a:off x="7176960" y="4156200"/>
            <a:ext cx="8398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7588080" y="4373640"/>
            <a:ext cx="0" cy="156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0" name="Line 33"/>
          <p:cNvSpPr/>
          <p:nvPr/>
        </p:nvSpPr>
        <p:spPr>
          <a:xfrm flipH="1">
            <a:off x="7105680" y="453852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7105680" y="3284280"/>
            <a:ext cx="0" cy="1245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2" name="Line 35"/>
          <p:cNvSpPr/>
          <p:nvPr/>
        </p:nvSpPr>
        <p:spPr>
          <a:xfrm>
            <a:off x="7105680" y="3284640"/>
            <a:ext cx="48240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100080" y="3465360"/>
            <a:ext cx="247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Single channel         single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2379600" y="4875120"/>
            <a:ext cx="235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Multi-channels (Scan) single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5" name="Text Box 38"/>
          <p:cNvSpPr/>
          <p:nvPr/>
        </p:nvSpPr>
        <p:spPr>
          <a:xfrm>
            <a:off x="6153120" y="4737240"/>
            <a:ext cx="287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Multi-channels </a:t>
            </a:r>
            <a:r>
              <a:rPr b="1" lang="fr-FR" sz="12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(Scan)</a:t>
            </a: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continuous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6" name="Text Box 39"/>
          <p:cNvSpPr/>
          <p:nvPr/>
        </p:nvSpPr>
        <p:spPr>
          <a:xfrm>
            <a:off x="4175280" y="3305160"/>
            <a:ext cx="279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3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Single channel      continuous conversion mode</a:t>
            </a:r>
            <a:endParaRPr b="0" lang="en-US" sz="13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B18C-16BE-4DCF-BE34-5F7588FEC969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Analog Watchdo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679320" y="1239840"/>
            <a:ext cx="84204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-bit programmable analog watchdog low and high threshold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abled on one, some or all converted channels: one regular or/and injected channel, all injected or/and regular channels.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rupt generation on low or high thresholds detec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984400" y="4032360"/>
            <a:ext cx="1773360" cy="82548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1" name="Line 5"/>
          <p:cNvSpPr/>
          <p:nvPr/>
        </p:nvSpPr>
        <p:spPr>
          <a:xfrm flipH="1" flipV="1">
            <a:off x="4566960" y="4551480"/>
            <a:ext cx="2236680" cy="1440"/>
          </a:xfrm>
          <a:prstGeom prst="line">
            <a:avLst/>
          </a:prstGeom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7160" bIns="-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49402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572080" y="4335480"/>
            <a:ext cx="984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00" spc="-1" strike="noStrike">
                <a:solidFill>
                  <a:srgbClr val="800080"/>
                </a:solidFill>
                <a:latin typeface="Verdana"/>
                <a:ea typeface="ＭＳ Ｐゴシック"/>
              </a:rPr>
              <a:t>Status</a:t>
            </a:r>
            <a:r>
              <a:rPr b="0" lang="fr-FR" sz="900" spc="-1" strike="noStrike">
                <a:solidFill>
                  <a:srgbClr val="800080"/>
                </a:solidFill>
                <a:latin typeface="Verdana"/>
                <a:ea typeface="ＭＳ Ｐゴシック"/>
              </a:rPr>
              <a:t> Register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6804000" y="4373640"/>
            <a:ext cx="1440" cy="185760"/>
          </a:xfrm>
          <a:prstGeom prst="line">
            <a:avLst/>
          </a:prstGeom>
          <a:ln w="2232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2867040" y="4541760"/>
            <a:ext cx="309600" cy="1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306600" y="4060800"/>
            <a:ext cx="14511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FR" sz="9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nalog Watchdog 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166920" y="4299120"/>
            <a:ext cx="1400400" cy="244440"/>
          </a:xfrm>
          <a:prstGeom prst="rect">
            <a:avLst/>
          </a:prstGeom>
          <a:solidFill>
            <a:srgbClr val="000080">
              <a:alpha val="2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Low Threshold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8" name="AutoShape 12"/>
          <p:cNvSpPr/>
          <p:nvPr/>
        </p:nvSpPr>
        <p:spPr>
          <a:xfrm rot="16200000">
            <a:off x="1869840" y="4469760"/>
            <a:ext cx="1792440" cy="192240"/>
          </a:xfrm>
          <a:prstGeom prst="pie">
            <a:avLst/>
          </a:prstGeom>
          <a:solidFill>
            <a:srgbClr val="3366ff">
              <a:alpha val="60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59" name="Line 13"/>
          <p:cNvSpPr/>
          <p:nvPr/>
        </p:nvSpPr>
        <p:spPr>
          <a:xfrm>
            <a:off x="2506680" y="3879720"/>
            <a:ext cx="1634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2503440" y="408780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511360" y="471168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2" name="Line 16"/>
          <p:cNvSpPr/>
          <p:nvPr/>
        </p:nvSpPr>
        <p:spPr>
          <a:xfrm>
            <a:off x="2503440" y="5048280"/>
            <a:ext cx="16344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503440" y="5267160"/>
            <a:ext cx="162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1930320" y="4917960"/>
            <a:ext cx="8002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emp Senso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1933560" y="5143680"/>
            <a:ext cx="8002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V</a:t>
            </a:r>
            <a:r>
              <a:rPr b="1" lang="fr-FR" sz="5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REFINT</a:t>
            </a:r>
            <a:endParaRPr b="0" lang="en-US" sz="5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1944720" y="3782880"/>
            <a:ext cx="6476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0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1936800" y="3981600"/>
            <a:ext cx="5666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05120" y="4614840"/>
            <a:ext cx="7588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5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006640" y="4218120"/>
            <a:ext cx="257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.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68040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667872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65548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64310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4" name="Rectangle 28"/>
          <p:cNvSpPr/>
          <p:nvPr/>
        </p:nvSpPr>
        <p:spPr>
          <a:xfrm>
            <a:off x="6305400" y="4033800"/>
            <a:ext cx="125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183360" y="4033800"/>
            <a:ext cx="12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6" name="Rectangle 30"/>
          <p:cNvSpPr/>
          <p:nvPr/>
        </p:nvSpPr>
        <p:spPr>
          <a:xfrm>
            <a:off x="605808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7" name="Rectangle 31"/>
          <p:cNvSpPr/>
          <p:nvPr/>
        </p:nvSpPr>
        <p:spPr>
          <a:xfrm>
            <a:off x="59342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58104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5684760" y="4033800"/>
            <a:ext cx="125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556092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543708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2" name="Rectangle 36"/>
          <p:cNvSpPr/>
          <p:nvPr/>
        </p:nvSpPr>
        <p:spPr>
          <a:xfrm>
            <a:off x="531324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3" name="Rectangle 37"/>
          <p:cNvSpPr/>
          <p:nvPr/>
        </p:nvSpPr>
        <p:spPr>
          <a:xfrm>
            <a:off x="5064120" y="4033800"/>
            <a:ext cx="12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4" name="Rectangle 38"/>
          <p:cNvSpPr/>
          <p:nvPr/>
        </p:nvSpPr>
        <p:spPr>
          <a:xfrm>
            <a:off x="5189400" y="4033800"/>
            <a:ext cx="123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5" name="Line 39"/>
          <p:cNvSpPr/>
          <p:nvPr/>
        </p:nvSpPr>
        <p:spPr>
          <a:xfrm flipH="1" flipV="1">
            <a:off x="6692400" y="4386240"/>
            <a:ext cx="212760" cy="1440"/>
          </a:xfrm>
          <a:prstGeom prst="line">
            <a:avLst/>
          </a:prstGeom>
          <a:ln w="22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7160" bIns="-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6" name="Rectangle 40"/>
          <p:cNvSpPr/>
          <p:nvPr/>
        </p:nvSpPr>
        <p:spPr>
          <a:xfrm>
            <a:off x="5219640" y="4049640"/>
            <a:ext cx="1774800" cy="277920"/>
          </a:xfrm>
          <a:prstGeom prst="rect">
            <a:avLst/>
          </a:prstGeom>
          <a:solidFill>
            <a:srgbClr val="800080">
              <a:alpha val="1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7" name="Line 41"/>
          <p:cNvSpPr/>
          <p:nvPr/>
        </p:nvSpPr>
        <p:spPr>
          <a:xfrm flipH="1">
            <a:off x="6675120" y="4060800"/>
            <a:ext cx="3240" cy="2746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6645240" y="4113360"/>
            <a:ext cx="614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7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WD</a:t>
            </a:r>
            <a:endParaRPr b="0" lang="en-US" sz="7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89" name="Rectangle 43"/>
          <p:cNvSpPr/>
          <p:nvPr/>
        </p:nvSpPr>
        <p:spPr>
          <a:xfrm>
            <a:off x="3166920" y="4543560"/>
            <a:ext cx="1400400" cy="244440"/>
          </a:xfrm>
          <a:prstGeom prst="rect">
            <a:avLst/>
          </a:prstGeom>
          <a:solidFill>
            <a:srgbClr val="000080">
              <a:alpha val="2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 Threshold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496B-F942-4B27-A89D-22369470BC50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31320"/>
            <a:ext cx="83059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dual 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vailable in devices with two ADCs: ADC1 master and ADC2 slav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DC1 and ADC2 triggers are synchronized internally for regular and injected channels conver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925800" y="3147840"/>
            <a:ext cx="838440" cy="335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PIO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orts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681440" y="2935440"/>
            <a:ext cx="6372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5" name="Text Box 6"/>
          <p:cNvSpPr/>
          <p:nvPr/>
        </p:nvSpPr>
        <p:spPr>
          <a:xfrm rot="5400000">
            <a:off x="3370320" y="3085920"/>
            <a:ext cx="796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emp Senso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6" name="Text Box 7"/>
          <p:cNvSpPr/>
          <p:nvPr/>
        </p:nvSpPr>
        <p:spPr>
          <a:xfrm rot="5400000">
            <a:off x="3271320" y="3187440"/>
            <a:ext cx="5652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V</a:t>
            </a:r>
            <a:r>
              <a:rPr b="1" lang="fr-FR" sz="5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REFINT</a:t>
            </a:r>
            <a:endParaRPr b="0" lang="en-US" sz="5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514760" y="3840120"/>
            <a:ext cx="0" cy="584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2909880" y="3863880"/>
            <a:ext cx="117324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Up to 4 injected channels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4565520" y="3851280"/>
            <a:ext cx="14544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Up to 16 regular channels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3989520" y="3918600"/>
            <a:ext cx="58320" cy="604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4484880" y="3905280"/>
            <a:ext cx="59760" cy="61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578480" y="2727360"/>
            <a:ext cx="6778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0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3363840" y="3622680"/>
            <a:ext cx="1741680" cy="217440"/>
          </a:xfrm>
          <a:prstGeom prst="flowChartManualOperation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NALOG MUX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4" name="Line 15"/>
          <p:cNvSpPr/>
          <p:nvPr/>
        </p:nvSpPr>
        <p:spPr>
          <a:xfrm>
            <a:off x="4022640" y="3851280"/>
            <a:ext cx="0" cy="573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4724280" y="348300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6" name="Line 17"/>
          <p:cNvSpPr/>
          <p:nvPr/>
        </p:nvSpPr>
        <p:spPr>
          <a:xfrm>
            <a:off x="4008600" y="3489480"/>
            <a:ext cx="0" cy="137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452448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4164120" y="3489480"/>
            <a:ext cx="25848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…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09" name="Line 20"/>
          <p:cNvSpPr/>
          <p:nvPr/>
        </p:nvSpPr>
        <p:spPr>
          <a:xfrm>
            <a:off x="4710240" y="3009960"/>
            <a:ext cx="0" cy="137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4487760" y="2933640"/>
            <a:ext cx="6372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4197240" y="2725560"/>
            <a:ext cx="57492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2" name="Line 23"/>
          <p:cNvSpPr/>
          <p:nvPr/>
        </p:nvSpPr>
        <p:spPr>
          <a:xfrm>
            <a:off x="4516560" y="3008160"/>
            <a:ext cx="0" cy="138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3970440" y="2933640"/>
            <a:ext cx="65160" cy="745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3716280" y="2725560"/>
            <a:ext cx="66852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ADC_IN15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5" name="Line 26"/>
          <p:cNvSpPr/>
          <p:nvPr/>
        </p:nvSpPr>
        <p:spPr>
          <a:xfrm>
            <a:off x="4000680" y="3008160"/>
            <a:ext cx="0" cy="138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6" name="Line 27"/>
          <p:cNvSpPr/>
          <p:nvPr/>
        </p:nvSpPr>
        <p:spPr>
          <a:xfrm>
            <a:off x="376092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7" name="Line 28"/>
          <p:cNvSpPr/>
          <p:nvPr/>
        </p:nvSpPr>
        <p:spPr>
          <a:xfrm>
            <a:off x="3557520" y="3476520"/>
            <a:ext cx="0" cy="139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3841920" y="4424400"/>
            <a:ext cx="898200" cy="50796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DC1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nalog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19" name="Line 30"/>
          <p:cNvSpPr/>
          <p:nvPr/>
        </p:nvSpPr>
        <p:spPr>
          <a:xfrm>
            <a:off x="4514760" y="4059360"/>
            <a:ext cx="22161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0" name="Line 31"/>
          <p:cNvSpPr/>
          <p:nvPr/>
        </p:nvSpPr>
        <p:spPr>
          <a:xfrm>
            <a:off x="4022640" y="4205160"/>
            <a:ext cx="21924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1" name="Line 32"/>
          <p:cNvSpPr/>
          <p:nvPr/>
        </p:nvSpPr>
        <p:spPr>
          <a:xfrm>
            <a:off x="6215040" y="4205160"/>
            <a:ext cx="0" cy="219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6730920" y="4059360"/>
            <a:ext cx="0" cy="3650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3" name="Rectangle 34"/>
          <p:cNvSpPr/>
          <p:nvPr/>
        </p:nvSpPr>
        <p:spPr>
          <a:xfrm>
            <a:off x="6031080" y="4424400"/>
            <a:ext cx="898200" cy="50796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DC2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Analog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4" name="Rectangle 35"/>
          <p:cNvSpPr/>
          <p:nvPr/>
        </p:nvSpPr>
        <p:spPr>
          <a:xfrm>
            <a:off x="3841920" y="4932360"/>
            <a:ext cx="898200" cy="72540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Digital Master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5" name="Rectangle 36"/>
          <p:cNvSpPr/>
          <p:nvPr/>
        </p:nvSpPr>
        <p:spPr>
          <a:xfrm>
            <a:off x="6031080" y="4932360"/>
            <a:ext cx="898200" cy="72540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900" spc="-1" strike="noStrike">
                <a:solidFill>
                  <a:srgbClr val="00b000"/>
                </a:solidFill>
                <a:latin typeface="Verdana"/>
                <a:ea typeface="ＭＳ Ｐゴシック"/>
              </a:rPr>
              <a:t>Digital Slave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4745160" y="5076720"/>
            <a:ext cx="12859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4741920" y="4834080"/>
            <a:ext cx="13222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synchronization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8" name="Line 39"/>
          <p:cNvSpPr/>
          <p:nvPr/>
        </p:nvSpPr>
        <p:spPr>
          <a:xfrm>
            <a:off x="2536920" y="5029200"/>
            <a:ext cx="13111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1979640" y="4821120"/>
            <a:ext cx="194616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 (Regular group)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0" name="Line 41"/>
          <p:cNvSpPr/>
          <p:nvPr/>
        </p:nvSpPr>
        <p:spPr>
          <a:xfrm>
            <a:off x="2538360" y="5330880"/>
            <a:ext cx="13096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1" name="Text Box 42"/>
          <p:cNvSpPr/>
          <p:nvPr/>
        </p:nvSpPr>
        <p:spPr>
          <a:xfrm>
            <a:off x="1979640" y="5113440"/>
            <a:ext cx="193500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xternal event  (Injected group)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2" name="Line 43"/>
          <p:cNvSpPr/>
          <p:nvPr/>
        </p:nvSpPr>
        <p:spPr>
          <a:xfrm>
            <a:off x="4734000" y="5343480"/>
            <a:ext cx="12859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5052960" y="5100480"/>
            <a:ext cx="6444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Data register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4" name="Line 45"/>
          <p:cNvSpPr/>
          <p:nvPr/>
        </p:nvSpPr>
        <p:spPr>
          <a:xfrm>
            <a:off x="6929280" y="5524560"/>
            <a:ext cx="189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5" name="Line 46"/>
          <p:cNvSpPr/>
          <p:nvPr/>
        </p:nvSpPr>
        <p:spPr>
          <a:xfrm>
            <a:off x="7118280" y="5524560"/>
            <a:ext cx="0" cy="352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3557160" y="5877000"/>
            <a:ext cx="35607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7" name="Line 48"/>
          <p:cNvSpPr/>
          <p:nvPr/>
        </p:nvSpPr>
        <p:spPr>
          <a:xfrm flipV="1">
            <a:off x="3557520" y="5549400"/>
            <a:ext cx="0" cy="3272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3557520" y="5549760"/>
            <a:ext cx="279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5105520" y="5657760"/>
            <a:ext cx="958680" cy="1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6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EOC/JEOC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0" name="Text Box 51"/>
          <p:cNvSpPr/>
          <p:nvPr/>
        </p:nvSpPr>
        <p:spPr>
          <a:xfrm>
            <a:off x="4160880" y="2994120"/>
            <a:ext cx="257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8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…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17A-B203-41AA-90C7-5246D25DE7AB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w you are able t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07732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velop your application around STM32F10x dev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4" name="Picture 4" descr="j0283631"/>
          <p:cNvPicPr/>
          <p:nvPr/>
        </p:nvPicPr>
        <p:blipFill>
          <a:blip r:embed="rId1"/>
          <a:stretch/>
        </p:blipFill>
        <p:spPr>
          <a:xfrm>
            <a:off x="3809880" y="3657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A5D9-B846-4A8E-86C3-C4CDCFBE9C72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504720" y="990720"/>
            <a:ext cx="8129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Thank You !</a:t>
            </a:r>
            <a:endParaRPr b="0" lang="en-US" sz="3200" spc="-1" strike="noStrike">
              <a:solidFill>
                <a:srgbClr val="000099"/>
              </a:solidFill>
              <a:latin typeface="Chiller"/>
            </a:endParaRPr>
          </a:p>
        </p:txBody>
      </p:sp>
      <p:pic>
        <p:nvPicPr>
          <p:cNvPr id="447" name="Picture 3" descr="cover imagelr"/>
          <p:cNvPicPr/>
          <p:nvPr/>
        </p:nvPicPr>
        <p:blipFill>
          <a:blip r:embed="rId1"/>
          <a:stretch/>
        </p:blipFill>
        <p:spPr>
          <a:xfrm>
            <a:off x="533520" y="1805040"/>
            <a:ext cx="82803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F393-8E74-411F-BCBE-1151284BC9EF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1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012680"/>
            <a:ext cx="843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conversion rate 1 MHz and 12-bit resolu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1µs conversion time at 56 MHz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1.17µs conversion time at 72 MHz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range: 0 to 3.6 V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supply requirement: 2.4V to 3.6 V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 input range: VREF- ≤ VIN ≤ VREF+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VREF+ and VREF- available only in LQFP100 package)</a:t>
            </a:r>
            <a:endParaRPr b="0" lang="en-US" sz="16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ual mode (on devices with 2 ADCs): 8 conversion mode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18 multiplexed channels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6 external channels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 internal channels: connected to Temperature sensor and internal reference voltage (VREFINT = 1.2V)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173-2590-4BCA-AACA-D798DF563985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2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95280" y="1117440"/>
            <a:ext cx="83217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nnels conversion groups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16 channels regular group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4 channels injected group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ngle and continuous conversion mode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quencer-based scan mode for up to 16 convers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option for both regular and injected convers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nnel by channel programmable sampling time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continuous mode on regular and injected group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f-calibration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1E0-0B2F-48FF-AB56-FB4CC02816AF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Features (3/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73120" y="1117440"/>
            <a:ext cx="83217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26960" y="1168560"/>
            <a:ext cx="832176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ft or right Data alignment with inbuilt data coherency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alog Watchdog on high and low thresholds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rrupt generation on: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d of Conversion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d of Injected conversion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lvl="1" marL="660240" indent="-25380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alog watchdog</a:t>
            </a: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  <a:p>
            <a:pPr marL="304920" indent="-304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MA capability (only on ADC1) </a:t>
            </a:r>
            <a:endParaRPr b="0" lang="en-US" sz="20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7831-B2D1-4FB4-9107-A75FECFC4E91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065240"/>
            <a:ext cx="8762400" cy="5182920"/>
            <a:chOff x="76320" y="1065240"/>
            <a:chExt cx="8762400" cy="5182920"/>
          </a:xfrm>
        </p:grpSpPr>
        <p:sp>
          <p:nvSpPr>
            <p:cNvPr id="99" name="Text Box 4"/>
            <p:cNvSpPr/>
            <p:nvPr/>
          </p:nvSpPr>
          <p:spPr>
            <a:xfrm>
              <a:off x="684360" y="50673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 rot="16200000">
              <a:off x="1098720" y="5522040"/>
              <a:ext cx="974880" cy="13788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>
              <a:off x="1291680" y="51912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2" name="Line 7"/>
            <p:cNvSpPr/>
            <p:nvPr/>
          </p:nvSpPr>
          <p:spPr>
            <a:xfrm>
              <a:off x="1291680" y="532296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1291680" y="54576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>
              <a:off x="1291680" y="55944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1291680" y="57294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1291680" y="5862600"/>
              <a:ext cx="22572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675360" y="5995800"/>
              <a:ext cx="84204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681120" y="520200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2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688320" y="53355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3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681120" y="5470560"/>
              <a:ext cx="71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2_CC2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684360" y="560556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3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681120" y="574020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4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681120" y="1065240"/>
              <a:ext cx="0" cy="5182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H="1">
              <a:off x="675360" y="6230880"/>
              <a:ext cx="26899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681120" y="381312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6" name="AutoShape 21"/>
            <p:cNvSpPr/>
            <p:nvPr/>
          </p:nvSpPr>
          <p:spPr>
            <a:xfrm rot="16200000">
              <a:off x="1104120" y="4266360"/>
              <a:ext cx="976320" cy="13932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>
              <a:off x="1298520" y="39369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1298520" y="406872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1298520" y="420372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1298520" y="43401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1" name="Line 26"/>
            <p:cNvSpPr/>
            <p:nvPr/>
          </p:nvSpPr>
          <p:spPr>
            <a:xfrm>
              <a:off x="1298520" y="44751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1298520" y="4608360"/>
              <a:ext cx="2242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675360" y="4741920"/>
              <a:ext cx="84744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8600" bIns="-48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88320" y="3946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684360" y="4081320"/>
              <a:ext cx="71532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1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690120" y="4216320"/>
              <a:ext cx="71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2_CC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681120" y="4351320"/>
              <a:ext cx="71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3_CC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688320" y="4486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IM4_TRGO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29" name="AutoShape 34"/>
            <p:cNvSpPr/>
            <p:nvPr/>
          </p:nvSpPr>
          <p:spPr>
            <a:xfrm rot="16200000">
              <a:off x="693720" y="2709000"/>
              <a:ext cx="1793880" cy="146880"/>
            </a:xfrm>
            <a:prstGeom prst="pie">
              <a:avLst/>
            </a:prstGeom>
            <a:solidFill>
              <a:srgbClr val="3366ff">
                <a:alpha val="6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i="1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NALOG  MUX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0" name="Rectangle 35"/>
            <p:cNvSpPr/>
            <p:nvPr/>
          </p:nvSpPr>
          <p:spPr>
            <a:xfrm>
              <a:off x="884880" y="1969920"/>
              <a:ext cx="443160" cy="10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GPIO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Port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1328040" y="2095560"/>
              <a:ext cx="189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2" name="Line 37"/>
            <p:cNvSpPr/>
            <p:nvPr/>
          </p:nvSpPr>
          <p:spPr>
            <a:xfrm>
              <a:off x="1324440" y="230328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3" name="Line 38"/>
            <p:cNvSpPr/>
            <p:nvPr/>
          </p:nvSpPr>
          <p:spPr>
            <a:xfrm>
              <a:off x="1332000" y="2927160"/>
              <a:ext cx="190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4" name="Line 39"/>
            <p:cNvSpPr/>
            <p:nvPr/>
          </p:nvSpPr>
          <p:spPr>
            <a:xfrm>
              <a:off x="1324440" y="326556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5" name="Line 40"/>
            <p:cNvSpPr/>
            <p:nvPr/>
          </p:nvSpPr>
          <p:spPr>
            <a:xfrm>
              <a:off x="1324440" y="3484440"/>
              <a:ext cx="187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6" name="Line 41"/>
            <p:cNvSpPr/>
            <p:nvPr/>
          </p:nvSpPr>
          <p:spPr>
            <a:xfrm>
              <a:off x="699480" y="20955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699480" y="22971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699480" y="2927160"/>
              <a:ext cx="185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39" name="Rectangle 44"/>
            <p:cNvSpPr/>
            <p:nvPr/>
          </p:nvSpPr>
          <p:spPr>
            <a:xfrm>
              <a:off x="644040" y="205272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644040" y="224640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1" name="Rectangle 46"/>
            <p:cNvSpPr/>
            <p:nvPr/>
          </p:nvSpPr>
          <p:spPr>
            <a:xfrm>
              <a:off x="640800" y="2889360"/>
              <a:ext cx="716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660600" y="3136680"/>
              <a:ext cx="9244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Temp Sensor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3" name="Text Box 48"/>
            <p:cNvSpPr/>
            <p:nvPr/>
          </p:nvSpPr>
          <p:spPr>
            <a:xfrm>
              <a:off x="664560" y="3360600"/>
              <a:ext cx="9262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INT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2039400" y="2127240"/>
              <a:ext cx="1717200" cy="1233360"/>
            </a:xfrm>
            <a:prstGeom prst="rect">
              <a:avLst/>
            </a:prstGeom>
            <a:solidFill>
              <a:srgbClr val="000080">
                <a:alpha val="15000"/>
              </a:srgbClr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i="1" lang="fr-FR" sz="900" spc="-1" strike="noStrike">
                  <a:solidFill>
                    <a:srgbClr val="00b000"/>
                  </a:solidFill>
                  <a:latin typeface="Verdana"/>
                  <a:ea typeface="ＭＳ Ｐゴシック"/>
                </a:rPr>
                <a:t>ADC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5" name="Line 50"/>
            <p:cNvSpPr/>
            <p:nvPr/>
          </p:nvSpPr>
          <p:spPr>
            <a:xfrm>
              <a:off x="1653480" y="2695680"/>
              <a:ext cx="474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6" name="Line 51"/>
            <p:cNvSpPr/>
            <p:nvPr/>
          </p:nvSpPr>
          <p:spPr>
            <a:xfrm>
              <a:off x="1664640" y="3133800"/>
              <a:ext cx="753480" cy="1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1653480" y="2394000"/>
              <a:ext cx="411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Up to 4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8" name="Text Box 53"/>
            <p:cNvSpPr/>
            <p:nvPr/>
          </p:nvSpPr>
          <p:spPr>
            <a:xfrm>
              <a:off x="1653480" y="2863800"/>
              <a:ext cx="4118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Up to 16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49" name="Line 54"/>
            <p:cNvSpPr/>
            <p:nvPr/>
          </p:nvSpPr>
          <p:spPr>
            <a:xfrm flipV="1">
              <a:off x="1748880" y="2661480"/>
              <a:ext cx="67320" cy="67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0" name="Line 55"/>
            <p:cNvSpPr/>
            <p:nvPr/>
          </p:nvSpPr>
          <p:spPr>
            <a:xfrm flipV="1">
              <a:off x="1761840" y="3099600"/>
              <a:ext cx="67320" cy="67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2129400" y="2520720"/>
              <a:ext cx="1082880" cy="343080"/>
            </a:xfrm>
            <a:prstGeom prst="rect">
              <a:avLst/>
            </a:prstGeom>
            <a:solidFill>
              <a:srgbClr val="3366ff">
                <a:alpha val="40000"/>
              </a:srgbClr>
            </a:solidFill>
            <a:ln w="1260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Injected Channel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418480" y="2927160"/>
              <a:ext cx="1040400" cy="343080"/>
            </a:xfrm>
            <a:prstGeom prst="rect">
              <a:avLst/>
            </a:prstGeom>
            <a:solidFill>
              <a:srgbClr val="3366ff">
                <a:alpha val="40000"/>
              </a:srgbClr>
            </a:solidFill>
            <a:ln w="1260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Regular Channel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3" name="Line 58"/>
            <p:cNvSpPr/>
            <p:nvPr/>
          </p:nvSpPr>
          <p:spPr>
            <a:xfrm flipV="1">
              <a:off x="2238480" y="2863800"/>
              <a:ext cx="0" cy="1195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4" name="AutoShape 59"/>
            <p:cNvSpPr/>
            <p:nvPr/>
          </p:nvSpPr>
          <p:spPr>
            <a:xfrm rot="16200000">
              <a:off x="2157120" y="4030920"/>
              <a:ext cx="144720" cy="200520"/>
            </a:xfrm>
            <a:prstGeom prst="flowChartDelay">
              <a:avLst/>
            </a:prstGeom>
            <a:solidFill>
              <a:srgbClr val="c0c0c0">
                <a:alpha val="7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5" name="Line 60"/>
            <p:cNvSpPr/>
            <p:nvPr/>
          </p:nvSpPr>
          <p:spPr>
            <a:xfrm>
              <a:off x="1664640" y="4340160"/>
              <a:ext cx="540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6" name="Line 61"/>
            <p:cNvSpPr/>
            <p:nvPr/>
          </p:nvSpPr>
          <p:spPr>
            <a:xfrm flipV="1">
              <a:off x="2205000" y="4216320"/>
              <a:ext cx="0" cy="12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7" name="Line 62"/>
            <p:cNvSpPr/>
            <p:nvPr/>
          </p:nvSpPr>
          <p:spPr>
            <a:xfrm>
              <a:off x="2271240" y="4216320"/>
              <a:ext cx="0" cy="195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8" name="Text Box 63"/>
            <p:cNvSpPr/>
            <p:nvPr/>
          </p:nvSpPr>
          <p:spPr>
            <a:xfrm>
              <a:off x="1815120" y="438948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JEXTRIG bit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1580040" y="3917880"/>
              <a:ext cx="7149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tart Trigger (injected group)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638640" y="164628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640800" y="1500120"/>
              <a:ext cx="716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2" name="Rectangle 67"/>
            <p:cNvSpPr/>
            <p:nvPr/>
          </p:nvSpPr>
          <p:spPr>
            <a:xfrm>
              <a:off x="640800" y="1355760"/>
              <a:ext cx="7488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3" name="Rectangle 68"/>
            <p:cNvSpPr/>
            <p:nvPr/>
          </p:nvSpPr>
          <p:spPr>
            <a:xfrm>
              <a:off x="644040" y="1209600"/>
              <a:ext cx="73440" cy="745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4" name="Text Box 69"/>
            <p:cNvSpPr/>
            <p:nvPr/>
          </p:nvSpPr>
          <p:spPr>
            <a:xfrm>
              <a:off x="257760" y="1127160"/>
              <a:ext cx="4485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+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5" name="Text Box 70"/>
            <p:cNvSpPr/>
            <p:nvPr/>
          </p:nvSpPr>
          <p:spPr>
            <a:xfrm>
              <a:off x="257760" y="1284120"/>
              <a:ext cx="4467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REF-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6" name="Text Box 71"/>
            <p:cNvSpPr/>
            <p:nvPr/>
          </p:nvSpPr>
          <p:spPr>
            <a:xfrm>
              <a:off x="254520" y="1438200"/>
              <a:ext cx="450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DDA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7" name="Text Box 72"/>
            <p:cNvSpPr/>
            <p:nvPr/>
          </p:nvSpPr>
          <p:spPr>
            <a:xfrm>
              <a:off x="254520" y="1596960"/>
              <a:ext cx="450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V</a:t>
              </a:r>
              <a:r>
                <a:rPr b="1" lang="fr-FR" sz="5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SA</a:t>
              </a:r>
              <a:endParaRPr b="0" lang="en-US" sz="5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8" name="Text Box 73"/>
            <p:cNvSpPr/>
            <p:nvPr/>
          </p:nvSpPr>
          <p:spPr>
            <a:xfrm>
              <a:off x="76320" y="2000160"/>
              <a:ext cx="6249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0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>
              <a:off x="76320" y="2198520"/>
              <a:ext cx="632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0" name="Text Box 75"/>
            <p:cNvSpPr/>
            <p:nvPr/>
          </p:nvSpPr>
          <p:spPr>
            <a:xfrm>
              <a:off x="76320" y="2830320"/>
              <a:ext cx="6210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_IN15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1" name="Text Box 76"/>
            <p:cNvSpPr/>
            <p:nvPr/>
          </p:nvSpPr>
          <p:spPr>
            <a:xfrm>
              <a:off x="340920" y="2433600"/>
              <a:ext cx="297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.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640800" y="4707000"/>
              <a:ext cx="74880" cy="73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638640" y="5959440"/>
              <a:ext cx="73440" cy="730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4" name="Text Box 79"/>
            <p:cNvSpPr/>
            <p:nvPr/>
          </p:nvSpPr>
          <p:spPr>
            <a:xfrm>
              <a:off x="76320" y="4646520"/>
              <a:ext cx="6818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_IT_15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5" name="Text Box 80"/>
            <p:cNvSpPr/>
            <p:nvPr/>
          </p:nvSpPr>
          <p:spPr>
            <a:xfrm>
              <a:off x="85320" y="5900760"/>
              <a:ext cx="6796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_IT_11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6" name="AutoShape 81"/>
            <p:cNvSpPr/>
            <p:nvPr/>
          </p:nvSpPr>
          <p:spPr>
            <a:xfrm rot="16200000">
              <a:off x="2761200" y="5378040"/>
              <a:ext cx="144720" cy="201960"/>
            </a:xfrm>
            <a:prstGeom prst="flowChartDelay">
              <a:avLst/>
            </a:prstGeom>
            <a:solidFill>
              <a:srgbClr val="969696">
                <a:alpha val="50000"/>
              </a:srgbClr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7" name="Line 82"/>
            <p:cNvSpPr/>
            <p:nvPr/>
          </p:nvSpPr>
          <p:spPr>
            <a:xfrm>
              <a:off x="1675440" y="5688000"/>
              <a:ext cx="1135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8" name="Line 83"/>
            <p:cNvSpPr/>
            <p:nvPr/>
          </p:nvSpPr>
          <p:spPr>
            <a:xfrm flipV="1">
              <a:off x="2811600" y="5564160"/>
              <a:ext cx="0" cy="12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79" name="Line 84"/>
            <p:cNvSpPr/>
            <p:nvPr/>
          </p:nvSpPr>
          <p:spPr>
            <a:xfrm>
              <a:off x="2877840" y="5564160"/>
              <a:ext cx="0" cy="195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0" name="Text Box 85"/>
            <p:cNvSpPr/>
            <p:nvPr/>
          </p:nvSpPr>
          <p:spPr>
            <a:xfrm>
              <a:off x="2445840" y="5737320"/>
              <a:ext cx="71316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RIG bit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1" name="Text Box 86"/>
            <p:cNvSpPr/>
            <p:nvPr/>
          </p:nvSpPr>
          <p:spPr>
            <a:xfrm>
              <a:off x="1730880" y="5383080"/>
              <a:ext cx="9612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Start Trigger (regular group)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2" name="Text Box 87"/>
            <p:cNvSpPr/>
            <p:nvPr/>
          </p:nvSpPr>
          <p:spPr>
            <a:xfrm>
              <a:off x="1583640" y="4762440"/>
              <a:ext cx="94464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JEXTSEL[2:0] bits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3" name="Line 88"/>
            <p:cNvSpPr/>
            <p:nvPr/>
          </p:nvSpPr>
          <p:spPr>
            <a:xfrm>
              <a:off x="1602000" y="4741920"/>
              <a:ext cx="0" cy="141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4" name="Text Box 89"/>
            <p:cNvSpPr/>
            <p:nvPr/>
          </p:nvSpPr>
          <p:spPr>
            <a:xfrm>
              <a:off x="1580040" y="5997600"/>
              <a:ext cx="94680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6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XTSEL[2:0] bits</a:t>
              </a:r>
              <a:endParaRPr b="0" lang="en-US" sz="6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5" name="Line 90"/>
            <p:cNvSpPr/>
            <p:nvPr/>
          </p:nvSpPr>
          <p:spPr>
            <a:xfrm>
              <a:off x="1598400" y="5987880"/>
              <a:ext cx="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6" name="Line 91"/>
            <p:cNvSpPr/>
            <p:nvPr/>
          </p:nvSpPr>
          <p:spPr>
            <a:xfrm flipV="1">
              <a:off x="2842920" y="3265200"/>
              <a:ext cx="0" cy="2128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7" name="Line 92"/>
            <p:cNvSpPr/>
            <p:nvPr/>
          </p:nvSpPr>
          <p:spPr>
            <a:xfrm>
              <a:off x="708480" y="1677960"/>
              <a:ext cx="162144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8" name="Line 93"/>
            <p:cNvSpPr/>
            <p:nvPr/>
          </p:nvSpPr>
          <p:spPr>
            <a:xfrm>
              <a:off x="2329920" y="1677960"/>
              <a:ext cx="0" cy="44928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89" name="Line 94"/>
            <p:cNvSpPr/>
            <p:nvPr/>
          </p:nvSpPr>
          <p:spPr>
            <a:xfrm>
              <a:off x="725040" y="1236600"/>
              <a:ext cx="190116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0" name="Line 95"/>
            <p:cNvSpPr/>
            <p:nvPr/>
          </p:nvSpPr>
          <p:spPr>
            <a:xfrm>
              <a:off x="708480" y="1392120"/>
              <a:ext cx="181980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1" name="Line 96"/>
            <p:cNvSpPr/>
            <p:nvPr/>
          </p:nvSpPr>
          <p:spPr>
            <a:xfrm>
              <a:off x="715680" y="1538280"/>
              <a:ext cx="1702440" cy="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2" name="Line 97"/>
            <p:cNvSpPr/>
            <p:nvPr/>
          </p:nvSpPr>
          <p:spPr>
            <a:xfrm>
              <a:off x="2418480" y="1538280"/>
              <a:ext cx="0" cy="58896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3" name="Line 98"/>
            <p:cNvSpPr/>
            <p:nvPr/>
          </p:nvSpPr>
          <p:spPr>
            <a:xfrm>
              <a:off x="2528640" y="1392120"/>
              <a:ext cx="0" cy="73512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4" name="Line 99"/>
            <p:cNvSpPr/>
            <p:nvPr/>
          </p:nvSpPr>
          <p:spPr>
            <a:xfrm>
              <a:off x="2626200" y="1236600"/>
              <a:ext cx="0" cy="89064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5" name="Rectangle 100"/>
            <p:cNvSpPr/>
            <p:nvPr/>
          </p:nvSpPr>
          <p:spPr>
            <a:xfrm>
              <a:off x="5775480" y="2523960"/>
              <a:ext cx="1494360" cy="36540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Injected data registers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4x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6" name="Line 101"/>
            <p:cNvSpPr/>
            <p:nvPr/>
          </p:nvSpPr>
          <p:spPr>
            <a:xfrm>
              <a:off x="3459240" y="3112920"/>
              <a:ext cx="82152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7" name="Line 102"/>
            <p:cNvSpPr/>
            <p:nvPr/>
          </p:nvSpPr>
          <p:spPr>
            <a:xfrm>
              <a:off x="3212640" y="2706480"/>
              <a:ext cx="256104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8" name="Line 103"/>
            <p:cNvSpPr/>
            <p:nvPr/>
          </p:nvSpPr>
          <p:spPr>
            <a:xfrm>
              <a:off x="5774040" y="3112920"/>
              <a:ext cx="269856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199" name="Line 104"/>
            <p:cNvSpPr/>
            <p:nvPr/>
          </p:nvSpPr>
          <p:spPr>
            <a:xfrm>
              <a:off x="7268760" y="2706480"/>
              <a:ext cx="1205640" cy="0"/>
            </a:xfrm>
            <a:prstGeom prst="line">
              <a:avLst/>
            </a:prstGeom>
            <a:ln w="2844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0" name="Rectangle 105"/>
            <p:cNvSpPr/>
            <p:nvPr/>
          </p:nvSpPr>
          <p:spPr>
            <a:xfrm>
              <a:off x="8474400" y="2182680"/>
              <a:ext cx="364320" cy="1360440"/>
            </a:xfrm>
            <a:prstGeom prst="rect">
              <a:avLst/>
            </a:prstGeom>
            <a:solidFill>
              <a:srgbClr val="ffcc99">
                <a:alpha val="20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dress/data bus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1" name="Rectangle 106"/>
            <p:cNvSpPr/>
            <p:nvPr/>
          </p:nvSpPr>
          <p:spPr>
            <a:xfrm>
              <a:off x="4280760" y="2946240"/>
              <a:ext cx="1494360" cy="36540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Regular data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3756960" y="2320920"/>
              <a:ext cx="351324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3" name="Text Box 108"/>
            <p:cNvSpPr/>
            <p:nvPr/>
          </p:nvSpPr>
          <p:spPr>
            <a:xfrm>
              <a:off x="7257240" y="2176560"/>
              <a:ext cx="1204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cc6600"/>
                  </a:solidFill>
                  <a:latin typeface="Verdana"/>
                  <a:ea typeface="ＭＳ Ｐゴシック"/>
                </a:rPr>
                <a:t>DMA Request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4" name="Line 109"/>
            <p:cNvSpPr/>
            <p:nvPr/>
          </p:nvSpPr>
          <p:spPr>
            <a:xfrm>
              <a:off x="3365280" y="1790640"/>
              <a:ext cx="0" cy="336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5" name="Text Box 110"/>
            <p:cNvSpPr/>
            <p:nvPr/>
          </p:nvSpPr>
          <p:spPr>
            <a:xfrm>
              <a:off x="3309840" y="1574640"/>
              <a:ext cx="821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DCCLK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6" name="Line 111"/>
            <p:cNvSpPr/>
            <p:nvPr/>
          </p:nvSpPr>
          <p:spPr>
            <a:xfrm>
              <a:off x="3365280" y="1781280"/>
              <a:ext cx="582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7" name="Rectangle 112"/>
            <p:cNvSpPr/>
            <p:nvPr/>
          </p:nvSpPr>
          <p:spPr>
            <a:xfrm>
              <a:off x="3948120" y="1646280"/>
              <a:ext cx="1194840" cy="32364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DC Prescalers: 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fr-FR" sz="7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Div2, Div4, Div6 and Div8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8" name="Line 113"/>
            <p:cNvSpPr/>
            <p:nvPr/>
          </p:nvSpPr>
          <p:spPr>
            <a:xfrm flipH="1">
              <a:off x="5142960" y="1781280"/>
              <a:ext cx="63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09" name="Text Box 114"/>
            <p:cNvSpPr/>
            <p:nvPr/>
          </p:nvSpPr>
          <p:spPr>
            <a:xfrm>
              <a:off x="5205600" y="1563480"/>
              <a:ext cx="821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9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PCLK2</a:t>
              </a:r>
              <a:endParaRPr b="0" lang="en-US" sz="9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0" name="AutoShape 115"/>
            <p:cNvSpPr/>
            <p:nvPr/>
          </p:nvSpPr>
          <p:spPr>
            <a:xfrm rot="16200000">
              <a:off x="6019200" y="5292000"/>
              <a:ext cx="365040" cy="426600"/>
            </a:xfrm>
            <a:prstGeom prst="flowChartOnlineStorage">
              <a:avLst/>
            </a:prstGeom>
            <a:solidFill>
              <a:srgbClr val="000066">
                <a:alpha val="4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1" name="Line 116"/>
            <p:cNvSpPr/>
            <p:nvPr/>
          </p:nvSpPr>
          <p:spPr>
            <a:xfrm>
              <a:off x="6207480" y="5692680"/>
              <a:ext cx="0" cy="2811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2" name="Rectangle 117"/>
            <p:cNvSpPr/>
            <p:nvPr/>
          </p:nvSpPr>
          <p:spPr>
            <a:xfrm>
              <a:off x="3159360" y="3608280"/>
              <a:ext cx="1719000" cy="1231920"/>
            </a:xfrm>
            <a:prstGeom prst="rect">
              <a:avLst/>
            </a:prstGeom>
            <a:solidFill>
              <a:srgbClr val="ccffff">
                <a:alpha val="5000"/>
              </a:srgbClr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nalog Watchdog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3" name="Rectangle 118"/>
            <p:cNvSpPr/>
            <p:nvPr/>
          </p:nvSpPr>
          <p:spPr>
            <a:xfrm>
              <a:off x="3212640" y="3967200"/>
              <a:ext cx="1610280" cy="29988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High Threshold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4" name="Rectangle 119"/>
            <p:cNvSpPr/>
            <p:nvPr/>
          </p:nvSpPr>
          <p:spPr>
            <a:xfrm>
              <a:off x="3243960" y="4421160"/>
              <a:ext cx="1579320" cy="299880"/>
            </a:xfrm>
            <a:prstGeom prst="rect">
              <a:avLst/>
            </a:prstGeom>
            <a:solidFill>
              <a:srgbClr val="00b000">
                <a:alpha val="8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Low Threshold register 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(12bits)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5" name="Rectangle 120"/>
            <p:cNvSpPr/>
            <p:nvPr/>
          </p:nvSpPr>
          <p:spPr>
            <a:xfrm>
              <a:off x="5494320" y="4494240"/>
              <a:ext cx="1263240" cy="218880"/>
            </a:xfrm>
            <a:prstGeom prst="rect">
              <a:avLst/>
            </a:prstGeom>
            <a:solidFill>
              <a:srgbClr val="993366">
                <a:alpha val="50000"/>
              </a:srgbClr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WD     EOC    JEOC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6" name="Rectangle 121"/>
            <p:cNvSpPr/>
            <p:nvPr/>
          </p:nvSpPr>
          <p:spPr>
            <a:xfrm>
              <a:off x="5380200" y="4913280"/>
              <a:ext cx="1634040" cy="244440"/>
            </a:xfrm>
            <a:prstGeom prst="rect">
              <a:avLst/>
            </a:prstGeom>
            <a:solidFill>
              <a:srgbClr val="993366">
                <a:alpha val="50000"/>
              </a:srgbClr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800" spc="-1" strike="noStrike">
                  <a:solidFill>
                    <a:srgbClr val="ffffff"/>
                  </a:solidFill>
                  <a:latin typeface="Verdana"/>
                  <a:ea typeface="ＭＳ Ｐゴシック"/>
                </a:rPr>
                <a:t>AWDIE    EOCIE   JEOCIE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7" name="Line 122"/>
            <p:cNvSpPr/>
            <p:nvPr/>
          </p:nvSpPr>
          <p:spPr>
            <a:xfrm>
              <a:off x="5700240" y="4721040"/>
              <a:ext cx="0" cy="19224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8" name="Line 123"/>
            <p:cNvSpPr/>
            <p:nvPr/>
          </p:nvSpPr>
          <p:spPr>
            <a:xfrm>
              <a:off x="6154200" y="4714920"/>
              <a:ext cx="0" cy="1936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19" name="Line 124"/>
            <p:cNvSpPr/>
            <p:nvPr/>
          </p:nvSpPr>
          <p:spPr>
            <a:xfrm>
              <a:off x="6599160" y="4714920"/>
              <a:ext cx="0" cy="1936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0" name="Line 125"/>
            <p:cNvSpPr/>
            <p:nvPr/>
          </p:nvSpPr>
          <p:spPr>
            <a:xfrm>
              <a:off x="4878360" y="4140000"/>
              <a:ext cx="82152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1" name="Line 126"/>
            <p:cNvSpPr/>
            <p:nvPr/>
          </p:nvSpPr>
          <p:spPr>
            <a:xfrm>
              <a:off x="5700240" y="4140000"/>
              <a:ext cx="0" cy="3445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2" name="Line 127"/>
            <p:cNvSpPr/>
            <p:nvPr/>
          </p:nvSpPr>
          <p:spPr>
            <a:xfrm>
              <a:off x="6610320" y="2889360"/>
              <a:ext cx="0" cy="16048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3" name="AutoShape 128"/>
            <p:cNvSpPr/>
            <p:nvPr/>
          </p:nvSpPr>
          <p:spPr>
            <a:xfrm flipV="1" rot="5400000">
              <a:off x="6080040" y="4041720"/>
              <a:ext cx="146160" cy="199800"/>
            </a:xfrm>
            <a:prstGeom prst="flowChartDelay">
              <a:avLst/>
            </a:prstGeom>
            <a:solidFill>
              <a:srgbClr val="000066">
                <a:alpha val="40000"/>
              </a:srgbClr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4" name="Line 129"/>
            <p:cNvSpPr/>
            <p:nvPr/>
          </p:nvSpPr>
          <p:spPr>
            <a:xfrm>
              <a:off x="6154200" y="4227480"/>
              <a:ext cx="0" cy="26820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5" name="Line 130"/>
            <p:cNvSpPr/>
            <p:nvPr/>
          </p:nvSpPr>
          <p:spPr>
            <a:xfrm>
              <a:off x="6198480" y="2889360"/>
              <a:ext cx="0" cy="117936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6" name="Line 131"/>
            <p:cNvSpPr/>
            <p:nvPr/>
          </p:nvSpPr>
          <p:spPr>
            <a:xfrm flipV="1">
              <a:off x="6122880" y="3484080"/>
              <a:ext cx="0" cy="58428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7" name="Line 132"/>
            <p:cNvSpPr/>
            <p:nvPr/>
          </p:nvSpPr>
          <p:spPr>
            <a:xfrm flipH="1">
              <a:off x="5487120" y="3484440"/>
              <a:ext cx="635760" cy="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8" name="Line 133"/>
            <p:cNvSpPr/>
            <p:nvPr/>
          </p:nvSpPr>
          <p:spPr>
            <a:xfrm flipV="1">
              <a:off x="5487120" y="3311640"/>
              <a:ext cx="0" cy="17280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29" name="Text Box 134"/>
            <p:cNvSpPr/>
            <p:nvPr/>
          </p:nvSpPr>
          <p:spPr>
            <a:xfrm>
              <a:off x="6911640" y="4511520"/>
              <a:ext cx="71316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Flags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0" name="Text Box 135"/>
            <p:cNvSpPr/>
            <p:nvPr/>
          </p:nvSpPr>
          <p:spPr>
            <a:xfrm>
              <a:off x="7060680" y="4910040"/>
              <a:ext cx="141372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Interrupt enable bits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1" name="Text Box 136"/>
            <p:cNvSpPr/>
            <p:nvPr/>
          </p:nvSpPr>
          <p:spPr>
            <a:xfrm>
              <a:off x="4843440" y="3855960"/>
              <a:ext cx="1064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Analog watchdog event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2" name="Text Box 137"/>
            <p:cNvSpPr/>
            <p:nvPr/>
          </p:nvSpPr>
          <p:spPr>
            <a:xfrm>
              <a:off x="6489000" y="3352680"/>
              <a:ext cx="1064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nd of injected conversion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3" name="Text Box 138"/>
            <p:cNvSpPr/>
            <p:nvPr/>
          </p:nvSpPr>
          <p:spPr>
            <a:xfrm>
              <a:off x="5124960" y="3460680"/>
              <a:ext cx="106272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700" spc="-1" strike="noStrike">
                  <a:solidFill>
                    <a:srgbClr val="000099"/>
                  </a:solidFill>
                  <a:latin typeface="Verdana"/>
                  <a:ea typeface="ＭＳ Ｐゴシック"/>
                </a:rPr>
                <a:t>End of conversion</a:t>
              </a:r>
              <a:endParaRPr b="0" lang="en-US" sz="7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4" name="Line 139"/>
            <p:cNvSpPr/>
            <p:nvPr/>
          </p:nvSpPr>
          <p:spPr>
            <a:xfrm>
              <a:off x="6198480" y="5157720"/>
              <a:ext cx="0" cy="223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Chiller"/>
              </a:endParaRPr>
            </a:p>
          </p:txBody>
        </p:sp>
        <p:sp>
          <p:nvSpPr>
            <p:cNvPr id="235" name="Text Box 140"/>
            <p:cNvSpPr/>
            <p:nvPr/>
          </p:nvSpPr>
          <p:spPr>
            <a:xfrm>
              <a:off x="6253560" y="5729400"/>
              <a:ext cx="141408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fr-FR" sz="800" spc="-1" strike="noStrike">
                  <a:solidFill>
                    <a:srgbClr val="990099"/>
                  </a:solidFill>
                  <a:latin typeface="Verdana"/>
                  <a:ea typeface="ＭＳ Ｐゴシック"/>
                </a:rPr>
                <a:t>ADC interrupt to NVIC</a:t>
              </a:r>
              <a:endParaRPr b="0" lang="en-US" sz="800" spc="-1" strike="noStrike">
                <a:solidFill>
                  <a:srgbClr val="000099"/>
                </a:solidFill>
                <a:latin typeface="Chille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8319-EB54-4CBF-AF2E-7EA5E0F3FEF6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Regular channels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6518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number of regular channels: Up to 16 chann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sample time and conversion sequ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star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through start b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genera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1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2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3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CC2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3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4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XTI Line11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C37B-78D4-406E-B085-AD765C16BF07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C Injected channels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number of injected channels: Up to 4 chann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able sample time and conversion sequ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version star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JAUTO: automatic injected conversion after regular channels conver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through start b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rnal trigger generated by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TRGO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1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2 CC1 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3 CC4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Timer4 TRGO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XTI Line15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4BC2-66A5-4A37-B583-F57541FB590C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og sample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7760" y="990360"/>
            <a:ext cx="81154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CCLK, up to 14MHz, taken from PCLK2 through a prescaler (Div2, Div4, Div6 and Div8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ree bits programmable sample time cycles for each channe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.5 cycle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7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3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8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41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55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71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39.5 cycl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815080" y="2900520"/>
            <a:ext cx="2435040" cy="2495520"/>
          </a:xfrm>
          <a:prstGeom prst="rect">
            <a:avLst/>
          </a:prstGeom>
          <a:solidFill>
            <a:srgbClr val="000080">
              <a:alpha val="15000"/>
            </a:srgbClr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fr-FR" sz="900" spc="-1" strike="noStrike">
                <a:solidFill>
                  <a:srgbClr val="00b000"/>
                </a:solidFill>
                <a:latin typeface="Times New Roman"/>
                <a:ea typeface="ＭＳ Ｐゴシック"/>
              </a:rPr>
              <a:t>ADC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668760" y="4083120"/>
            <a:ext cx="6141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272200" y="3875040"/>
            <a:ext cx="709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ADCCLK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282920" y="3909960"/>
            <a:ext cx="1030320" cy="324000"/>
          </a:xfrm>
          <a:prstGeom prst="rect">
            <a:avLst/>
          </a:prstGeom>
          <a:solidFill>
            <a:srgbClr val="008080">
              <a:alpha val="4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DC Prescalers: 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v2, Div4, Div6 and Div8</a:t>
            </a:r>
            <a:endParaRPr b="0" lang="en-US" sz="6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68760" y="3860640"/>
            <a:ext cx="711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Verdana"/>
                <a:ea typeface="ＭＳ Ｐゴシック"/>
              </a:rPr>
              <a:t>PCLK2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6249960" y="4379760"/>
            <a:ext cx="838080" cy="21780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55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313240" y="4089240"/>
            <a:ext cx="743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49960" y="3362400"/>
            <a:ext cx="838080" cy="21888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6249960" y="463392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249960" y="412596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4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6249960" y="361800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3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249960" y="387180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8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6249960" y="3108240"/>
            <a:ext cx="838080" cy="2192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6249960" y="4888080"/>
            <a:ext cx="838080" cy="21744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39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6056280" y="3218040"/>
            <a:ext cx="0" cy="17841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6056280" y="32180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6058080" y="5006880"/>
            <a:ext cx="195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2" name="Line 21"/>
          <p:cNvSpPr/>
          <p:nvPr/>
        </p:nvSpPr>
        <p:spPr>
          <a:xfrm>
            <a:off x="6056280" y="34844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6056280" y="372600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6056280" y="397980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6056280" y="42339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6" name="Line 25"/>
          <p:cNvSpPr/>
          <p:nvPr/>
        </p:nvSpPr>
        <p:spPr>
          <a:xfrm>
            <a:off x="6056280" y="44877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6056280" y="47433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7527960" y="4106880"/>
            <a:ext cx="2570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69" name="Line 28"/>
          <p:cNvSpPr/>
          <p:nvPr/>
        </p:nvSpPr>
        <p:spPr>
          <a:xfrm>
            <a:off x="7091280" y="321156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0" name="Line 29"/>
          <p:cNvSpPr/>
          <p:nvPr/>
        </p:nvSpPr>
        <p:spPr>
          <a:xfrm>
            <a:off x="7093080" y="5002200"/>
            <a:ext cx="195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1" name="Line 30"/>
          <p:cNvSpPr/>
          <p:nvPr/>
        </p:nvSpPr>
        <p:spPr>
          <a:xfrm>
            <a:off x="7091280" y="347832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2" name="Line 31"/>
          <p:cNvSpPr/>
          <p:nvPr/>
        </p:nvSpPr>
        <p:spPr>
          <a:xfrm>
            <a:off x="7091280" y="371952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7091280" y="39736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7091280" y="42292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5" name="Line 34"/>
          <p:cNvSpPr/>
          <p:nvPr/>
        </p:nvSpPr>
        <p:spPr>
          <a:xfrm>
            <a:off x="7091280" y="448308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6" name="Line 35"/>
          <p:cNvSpPr/>
          <p:nvPr/>
        </p:nvSpPr>
        <p:spPr>
          <a:xfrm>
            <a:off x="7091280" y="4737240"/>
            <a:ext cx="1936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7" name="AutoShape 36"/>
          <p:cNvSpPr/>
          <p:nvPr/>
        </p:nvSpPr>
        <p:spPr>
          <a:xfrm rot="16200000">
            <a:off x="6354720" y="3976920"/>
            <a:ext cx="2106720" cy="226800"/>
          </a:xfrm>
          <a:prstGeom prst="pie">
            <a:avLst/>
          </a:prstGeom>
          <a:solidFill>
            <a:srgbClr val="3366ff">
              <a:alpha val="60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ple Time Selection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8" name="Line 37"/>
          <p:cNvSpPr/>
          <p:nvPr/>
        </p:nvSpPr>
        <p:spPr>
          <a:xfrm>
            <a:off x="7432560" y="4937040"/>
            <a:ext cx="0" cy="255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7099200" y="5156280"/>
            <a:ext cx="817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fr-FR" sz="9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SMPx[2:0]</a:t>
            </a:r>
            <a:endParaRPr b="0" lang="en-US" sz="9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8172360" y="649764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55F-90BA-4C01-BB5F-B247A7D72964}" type="slidenum">
              <a:rPr b="0" lang="fr-FR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quenc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65188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quencer: different order,  different sampling time and oversampling possibility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: - Conversion of channels: 1, 2, 8, 4, 7, 3 and 11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- Different sampling time.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- Oversampling of channel 7.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0160" y="4076640"/>
            <a:ext cx="8398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1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67004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2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50812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8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346560" y="4076640"/>
            <a:ext cx="83952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4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18608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02452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5862600" y="4076640"/>
            <a:ext cx="8398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7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702480" y="4076640"/>
            <a:ext cx="83808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3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540560" y="4076640"/>
            <a:ext cx="838440" cy="217440"/>
          </a:xfrm>
          <a:prstGeom prst="rect">
            <a:avLst/>
          </a:prstGeom>
          <a:solidFill>
            <a:srgbClr val="000080">
              <a:alpha val="60000"/>
            </a:srgbClr>
          </a:solidFill>
          <a:ln w="1260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hannel11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108900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ffe701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3" name="AutoShape 14"/>
          <p:cNvSpPr/>
          <p:nvPr/>
        </p:nvSpPr>
        <p:spPr>
          <a:xfrm>
            <a:off x="366876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4" name="AutoShape 15"/>
          <p:cNvSpPr/>
          <p:nvPr/>
        </p:nvSpPr>
        <p:spPr>
          <a:xfrm>
            <a:off x="1927080" y="435780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5" name="AutoShape 16"/>
          <p:cNvSpPr/>
          <p:nvPr/>
        </p:nvSpPr>
        <p:spPr>
          <a:xfrm>
            <a:off x="283068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6" name="AutoShape 17"/>
          <p:cNvSpPr/>
          <p:nvPr/>
        </p:nvSpPr>
        <p:spPr>
          <a:xfrm>
            <a:off x="702468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7862760" y="4367160"/>
            <a:ext cx="193680" cy="690480"/>
          </a:xfrm>
          <a:prstGeom prst="downArrow">
            <a:avLst>
              <a:gd name="adj1" fmla="val 50000"/>
              <a:gd name="adj2" fmla="val 89126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8" name="AutoShape 19"/>
          <p:cNvSpPr/>
          <p:nvPr/>
        </p:nvSpPr>
        <p:spPr>
          <a:xfrm rot="1780800">
            <a:off x="6055920" y="4357800"/>
            <a:ext cx="258840" cy="726840"/>
          </a:xfrm>
          <a:prstGeom prst="downArrow">
            <a:avLst>
              <a:gd name="adj1" fmla="val 50000"/>
              <a:gd name="adj2" fmla="val 70202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299" name="AutoShape 20"/>
          <p:cNvSpPr/>
          <p:nvPr/>
        </p:nvSpPr>
        <p:spPr>
          <a:xfrm rot="19584600">
            <a:off x="4589640" y="4377960"/>
            <a:ext cx="255240" cy="738360"/>
          </a:xfrm>
          <a:prstGeom prst="downArrow">
            <a:avLst>
              <a:gd name="adj1" fmla="val 50000"/>
              <a:gd name="adj2" fmla="val 72320"/>
            </a:avLst>
          </a:prstGeom>
          <a:solidFill>
            <a:srgbClr val="ffe701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5346720" y="4344840"/>
            <a:ext cx="255600" cy="722520"/>
          </a:xfrm>
          <a:prstGeom prst="downArrow">
            <a:avLst>
              <a:gd name="adj1" fmla="val 50000"/>
              <a:gd name="adj2" fmla="val 70669"/>
            </a:avLst>
          </a:prstGeom>
          <a:solidFill>
            <a:srgbClr val="99cc00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170172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3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676584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28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3508200" y="5105520"/>
            <a:ext cx="67788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2637000" y="5105520"/>
            <a:ext cx="67788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853920" y="5118120"/>
            <a:ext cx="677880" cy="2649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7605720" y="5105520"/>
            <a:ext cx="676440" cy="26676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4721400" y="5092560"/>
            <a:ext cx="1473120" cy="279720"/>
          </a:xfrm>
          <a:prstGeom prst="rect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71.5 cycles</a:t>
            </a:r>
            <a:endParaRPr b="0" lang="en-US" sz="800" spc="-1" strike="noStrike">
              <a:solidFill>
                <a:srgbClr val="000099"/>
              </a:solidFill>
              <a:latin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7:26:22Z</dcterms:created>
  <dc:creator>David THIBAULT</dc:creator>
  <dc:description/>
  <dc:language>en-US</dc:language>
  <cp:lastModifiedBy>NEONET</cp:lastModifiedBy>
  <dcterms:modified xsi:type="dcterms:W3CDTF">2013-10-21T20:14:12Z</dcterms:modified>
  <cp:revision>119</cp:revision>
  <dc:subject/>
  <dc:title>Car audio platform - STMicroelectronics</dc:title>
</cp:coreProperties>
</file>